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6B0-C7FE-4BF3-A2DF-0827BF0D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FEF-D812-4A29-9DD7-55550D5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7F6-7CB0-454A-893A-E5E95717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384-15E2-4AA5-8EDE-B2CF6EBC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457-6CE7-49A0-AF78-AE39FA19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051-DCE7-4425-9D1C-29A782F9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D68-2573-4EEC-AF26-EF031710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4C1-BF6F-4516-B7D1-C31CB294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CAE-68DE-4A6B-89F4-98D98CB2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97D-8D77-45C1-8059-FE074AF7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9BD-95C8-49DF-A236-79ADBC4A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90B-D019-432F-A0C9-8DC28C66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2549-138A-4355-B5F6-79A6A6E81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51960" y="4010040"/>
            <a:ext cx="4876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67160" y="2759040"/>
            <a:ext cx="2246040" cy="1028880"/>
            <a:chOff x="3467160" y="2759040"/>
            <a:chExt cx="2246040" cy="1028880"/>
          </a:xfrm>
        </p:grpSpPr>
        <p:pic>
          <p:nvPicPr>
            <p:cNvPr id="43" name="cumulonimbus_capillatus_incus" descr=""/>
            <p:cNvPicPr/>
            <p:nvPr/>
          </p:nvPicPr>
          <p:blipFill>
            <a:blip r:embed="rId1"/>
            <a:stretch/>
          </p:blipFill>
          <p:spPr>
            <a:xfrm>
              <a:off x="3501360" y="2759040"/>
              <a:ext cx="221148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467160" y="2759040"/>
              <a:ext cx="2246040" cy="102888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800240" y="3765240"/>
            <a:ext cx="4197600" cy="840960"/>
            <a:chOff x="4800240" y="3765240"/>
            <a:chExt cx="4197600" cy="840960"/>
          </a:xfrm>
        </p:grpSpPr>
        <p:sp>
          <p:nvSpPr>
            <p:cNvPr id="46" name=""/>
            <p:cNvSpPr/>
            <p:nvPr/>
          </p:nvSpPr>
          <p:spPr>
            <a:xfrm>
              <a:off x="5894280" y="4146480"/>
              <a:ext cx="3103560" cy="459720"/>
            </a:xfrm>
            <a:prstGeom prst="rect">
              <a:avLst/>
            </a:prstGeom>
            <a:solidFill>
              <a:srgbClr val="759cfd"/>
            </a:solidFill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urants de densité 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62880" y="400680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4800240" y="3765240"/>
              <a:ext cx="106668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72360" y="1295280"/>
            <a:ext cx="1809720" cy="1505160"/>
            <a:chOff x="3672360" y="1295280"/>
            <a:chExt cx="1809720" cy="1505160"/>
          </a:xfrm>
        </p:grpSpPr>
        <p:sp>
          <p:nvSpPr>
            <p:cNvPr id="50" name=""/>
            <p:cNvSpPr/>
            <p:nvPr/>
          </p:nvSpPr>
          <p:spPr>
            <a:xfrm>
              <a:off x="3672360" y="1295280"/>
              <a:ext cx="1809720" cy="8254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Cisaill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Hélicit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51480" y="2146320"/>
              <a:ext cx="20520" cy="65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16400" y="2303640"/>
              <a:ext cx="484200" cy="26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9720" y="2212920"/>
              <a:ext cx="406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64040" y="1249560"/>
            <a:ext cx="2880720" cy="3734280"/>
            <a:chOff x="464040" y="1249560"/>
            <a:chExt cx="2880720" cy="3734280"/>
          </a:xfrm>
        </p:grpSpPr>
        <p:sp>
          <p:nvSpPr>
            <p:cNvPr id="55" name=""/>
            <p:cNvSpPr/>
            <p:nvPr/>
          </p:nvSpPr>
          <p:spPr>
            <a:xfrm rot="16192800">
              <a:off x="-556920" y="2636280"/>
              <a:ext cx="3732120" cy="960480"/>
            </a:xfrm>
            <a:custGeom>
              <a:avLst/>
              <a:gdLst>
                <a:gd name="textAreaLeft" fmla="*/ 563760 w 3732120"/>
                <a:gd name="textAreaRight" fmla="*/ 3168360 w 3732120"/>
                <a:gd name="textAreaTop" fmla="*/ 288720 h 960480"/>
                <a:gd name="textAreaBottom" fmla="*/ 6717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94"/>
                  </a:moveTo>
                  <a:lnTo>
                    <a:pt x="13417" y="6494"/>
                  </a:lnTo>
                  <a:lnTo>
                    <a:pt x="13417" y="0"/>
                  </a:lnTo>
                  <a:lnTo>
                    <a:pt x="21600" y="10800"/>
                  </a:lnTo>
                  <a:lnTo>
                    <a:pt x="13417" y="21600"/>
                  </a:lnTo>
                  <a:lnTo>
                    <a:pt x="13417" y="15106"/>
                  </a:lnTo>
                  <a:lnTo>
                    <a:pt x="0" y="15106"/>
                  </a:lnTo>
                  <a:lnTo>
                    <a:pt x="3263" y="10800"/>
                  </a:lnTo>
                  <a:lnTo>
                    <a:pt x="0" y="64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040" y="2778120"/>
              <a:ext cx="1651320" cy="11912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our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scend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APE/C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95440" y="3344760"/>
              <a:ext cx="94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32240" y="3206880"/>
              <a:ext cx="483840" cy="26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87680" y="3102120"/>
              <a:ext cx="406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89440" y="3689280"/>
            <a:ext cx="3092400" cy="3035880"/>
            <a:chOff x="2989440" y="3689280"/>
            <a:chExt cx="3092400" cy="3035880"/>
          </a:xfrm>
        </p:grpSpPr>
        <p:sp>
          <p:nvSpPr>
            <p:cNvPr id="61" name=""/>
            <p:cNvSpPr/>
            <p:nvPr/>
          </p:nvSpPr>
          <p:spPr>
            <a:xfrm>
              <a:off x="2989440" y="4680000"/>
              <a:ext cx="3092400" cy="20451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utres forç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rande échel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Orograph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ycle Diur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ayonnement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60840" y="3689280"/>
              <a:ext cx="1116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24320" y="4113360"/>
              <a:ext cx="48420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73640" y="4054320"/>
              <a:ext cx="406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710320" y="1944720"/>
            <a:ext cx="2768040" cy="2024640"/>
            <a:chOff x="5710320" y="1944720"/>
            <a:chExt cx="2768040" cy="2024640"/>
          </a:xfrm>
        </p:grpSpPr>
        <p:sp>
          <p:nvSpPr>
            <p:cNvPr id="66" name=""/>
            <p:cNvSpPr/>
            <p:nvPr/>
          </p:nvSpPr>
          <p:spPr>
            <a:xfrm rot="5400000">
              <a:off x="6498000" y="2169360"/>
              <a:ext cx="824040" cy="374760"/>
            </a:xfrm>
            <a:custGeom>
              <a:avLst/>
              <a:gdLst>
                <a:gd name="textAreaLeft" fmla="*/ 124200 w 824040"/>
                <a:gd name="textAreaRight" fmla="*/ 699840 w 824040"/>
                <a:gd name="textAreaTop" fmla="*/ 112680 h 374760"/>
                <a:gd name="textAreaBottom" fmla="*/ 26208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94"/>
                  </a:moveTo>
                  <a:lnTo>
                    <a:pt x="13417" y="6494"/>
                  </a:lnTo>
                  <a:lnTo>
                    <a:pt x="13417" y="0"/>
                  </a:lnTo>
                  <a:lnTo>
                    <a:pt x="21600" y="10800"/>
                  </a:lnTo>
                  <a:lnTo>
                    <a:pt x="13417" y="21600"/>
                  </a:lnTo>
                  <a:lnTo>
                    <a:pt x="13417" y="15106"/>
                  </a:lnTo>
                  <a:lnTo>
                    <a:pt x="0" y="15106"/>
                  </a:lnTo>
                  <a:lnTo>
                    <a:pt x="3263" y="10800"/>
                  </a:lnTo>
                  <a:lnTo>
                    <a:pt x="0" y="6494"/>
                  </a:lnTo>
                  <a:close/>
                </a:path>
              </a:pathLst>
            </a:custGeom>
            <a:solidFill>
              <a:srgbClr val="759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21920" y="2778120"/>
              <a:ext cx="1756440" cy="11912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our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escenda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CA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7101360" y="2169360"/>
              <a:ext cx="824040" cy="374760"/>
            </a:xfrm>
            <a:custGeom>
              <a:avLst/>
              <a:gdLst>
                <a:gd name="textAreaLeft" fmla="*/ 124200 w 824040"/>
                <a:gd name="textAreaRight" fmla="*/ 699840 w 824040"/>
                <a:gd name="textAreaTop" fmla="*/ 112680 h 374760"/>
                <a:gd name="textAreaBottom" fmla="*/ 26208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94"/>
                  </a:moveTo>
                  <a:lnTo>
                    <a:pt x="13417" y="6494"/>
                  </a:lnTo>
                  <a:lnTo>
                    <a:pt x="13417" y="0"/>
                  </a:lnTo>
                  <a:lnTo>
                    <a:pt x="21600" y="10800"/>
                  </a:lnTo>
                  <a:lnTo>
                    <a:pt x="13417" y="21600"/>
                  </a:lnTo>
                  <a:lnTo>
                    <a:pt x="13417" y="15106"/>
                  </a:lnTo>
                  <a:lnTo>
                    <a:pt x="0" y="15106"/>
                  </a:lnTo>
                  <a:lnTo>
                    <a:pt x="3263" y="10800"/>
                  </a:lnTo>
                  <a:lnTo>
                    <a:pt x="0" y="6494"/>
                  </a:lnTo>
                  <a:close/>
                </a:path>
              </a:pathLst>
            </a:custGeom>
            <a:solidFill>
              <a:srgbClr val="759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7723440" y="2169360"/>
              <a:ext cx="824040" cy="374760"/>
            </a:xfrm>
            <a:custGeom>
              <a:avLst/>
              <a:gdLst>
                <a:gd name="textAreaLeft" fmla="*/ 124200 w 824040"/>
                <a:gd name="textAreaRight" fmla="*/ 699840 w 824040"/>
                <a:gd name="textAreaTop" fmla="*/ 112680 h 374760"/>
                <a:gd name="textAreaBottom" fmla="*/ 26208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494"/>
                  </a:moveTo>
                  <a:lnTo>
                    <a:pt x="13417" y="6494"/>
                  </a:lnTo>
                  <a:lnTo>
                    <a:pt x="13417" y="0"/>
                  </a:lnTo>
                  <a:lnTo>
                    <a:pt x="21600" y="10800"/>
                  </a:lnTo>
                  <a:lnTo>
                    <a:pt x="13417" y="21600"/>
                  </a:lnTo>
                  <a:lnTo>
                    <a:pt x="13417" y="15106"/>
                  </a:lnTo>
                  <a:lnTo>
                    <a:pt x="0" y="15106"/>
                  </a:lnTo>
                  <a:lnTo>
                    <a:pt x="3263" y="10800"/>
                  </a:lnTo>
                  <a:lnTo>
                    <a:pt x="0" y="6494"/>
                  </a:lnTo>
                  <a:close/>
                </a:path>
              </a:pathLst>
            </a:custGeom>
            <a:solidFill>
              <a:srgbClr val="759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710320" y="3360600"/>
              <a:ext cx="930240" cy="2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19920" y="3213000"/>
              <a:ext cx="484200" cy="26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43680" y="3154320"/>
              <a:ext cx="406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0120"/>
            <a:ext cx="723924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cccc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ocessus et facteurs contrôlant la Conv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djustment Problem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pscale heating of Convective Hot Tower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cales interactions between convection and the environment occur vi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ravity Wav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ast propag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nvection is a source of </a:t>
            </a: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rticity and of P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80808"/>
                </a:solidFill>
                <a:latin typeface="Times New Roman"/>
              </a:rPr>
              <a:t>At 1st order the Rossby Radius </a:t>
            </a:r>
            <a:r>
              <a:rPr b="1" i="1" lang="fr-FR" sz="2000" spc="-1" strike="noStrike">
                <a:solidFill>
                  <a:srgbClr val="080808"/>
                </a:solidFill>
                <a:latin typeface="Symbol"/>
                <a:ea typeface="Symbol"/>
              </a:rPr>
              <a:t></a:t>
            </a:r>
            <a:r>
              <a:rPr b="1" i="1" lang="fr-FR" sz="2000" spc="-1" strike="noStrike">
                <a:solidFill>
                  <a:srgbClr val="080808"/>
                </a:solidFill>
                <a:latin typeface="Times New Roman"/>
              </a:rPr>
              <a:t> = NH/f</a:t>
            </a:r>
            <a:r>
              <a:rPr b="1" lang="fr-FR" sz="2000" spc="-1" strike="noStrike">
                <a:solidFill>
                  <a:srgbClr val="080808"/>
                </a:solidFill>
                <a:latin typeface="Times New Roman"/>
              </a:rPr>
              <a:t> corresponds to the distance performed by GW during a time 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571640" y="1447920"/>
            <a:ext cx="4343400" cy="2386440"/>
            <a:chOff x="4571640" y="1447920"/>
            <a:chExt cx="4343400" cy="2386440"/>
          </a:xfrm>
        </p:grpSpPr>
        <p:sp>
          <p:nvSpPr>
            <p:cNvPr id="77" name=""/>
            <p:cNvSpPr/>
            <p:nvPr/>
          </p:nvSpPr>
          <p:spPr>
            <a:xfrm>
              <a:off x="5184360" y="3309840"/>
              <a:ext cx="373068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189760" y="2319480"/>
              <a:ext cx="356328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67440" y="1447920"/>
              <a:ext cx="357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5182200" y="1653840"/>
              <a:ext cx="3540960" cy="1421640"/>
              <a:chOff x="5182200" y="1653840"/>
              <a:chExt cx="3540960" cy="1421640"/>
            </a:xfrm>
          </p:grpSpPr>
          <p:sp>
            <p:nvSpPr>
              <p:cNvPr id="81" name=""/>
              <p:cNvSpPr/>
              <p:nvPr/>
            </p:nvSpPr>
            <p:spPr>
              <a:xfrm>
                <a:off x="5182200" y="1653840"/>
                <a:ext cx="1769760" cy="361080"/>
              </a:xfrm>
              <a:custGeom>
                <a:avLst/>
                <a:gdLst/>
                <a:ahLst/>
                <a:rect l="l" t="t" r="r" b="b"/>
                <a:pathLst>
                  <a:path w="1420" h="165">
                    <a:moveTo>
                      <a:pt x="0" y="165"/>
                    </a:moveTo>
                    <a:cubicBezTo>
                      <a:pt x="50" y="155"/>
                      <a:pt x="101" y="145"/>
                      <a:pt x="180" y="130"/>
                    </a:cubicBezTo>
                    <a:cubicBezTo>
                      <a:pt x="259" y="115"/>
                      <a:pt x="362" y="93"/>
                      <a:pt x="472" y="77"/>
                    </a:cubicBezTo>
                    <a:cubicBezTo>
                      <a:pt x="582" y="61"/>
                      <a:pt x="725" y="45"/>
                      <a:pt x="840" y="33"/>
                    </a:cubicBezTo>
                    <a:cubicBezTo>
                      <a:pt x="955" y="21"/>
                      <a:pt x="1063" y="10"/>
                      <a:pt x="1160" y="5"/>
                    </a:cubicBezTo>
                    <a:cubicBezTo>
                      <a:pt x="1257" y="0"/>
                      <a:pt x="1366" y="2"/>
                      <a:pt x="1420" y="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6943320" y="1653840"/>
                <a:ext cx="1769760" cy="361080"/>
              </a:xfrm>
              <a:custGeom>
                <a:avLst/>
                <a:gdLst/>
                <a:ahLst/>
                <a:rect l="l" t="t" r="r" b="b"/>
                <a:pathLst>
                  <a:path w="1420" h="165">
                    <a:moveTo>
                      <a:pt x="0" y="165"/>
                    </a:moveTo>
                    <a:cubicBezTo>
                      <a:pt x="50" y="155"/>
                      <a:pt x="101" y="145"/>
                      <a:pt x="180" y="130"/>
                    </a:cubicBezTo>
                    <a:cubicBezTo>
                      <a:pt x="259" y="115"/>
                      <a:pt x="362" y="93"/>
                      <a:pt x="472" y="77"/>
                    </a:cubicBezTo>
                    <a:cubicBezTo>
                      <a:pt x="582" y="61"/>
                      <a:pt x="725" y="45"/>
                      <a:pt x="840" y="33"/>
                    </a:cubicBezTo>
                    <a:cubicBezTo>
                      <a:pt x="955" y="21"/>
                      <a:pt x="1063" y="10"/>
                      <a:pt x="1160" y="5"/>
                    </a:cubicBezTo>
                    <a:cubicBezTo>
                      <a:pt x="1257" y="0"/>
                      <a:pt x="1366" y="2"/>
                      <a:pt x="1420" y="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5182200" y="2705040"/>
                <a:ext cx="1769760" cy="361080"/>
              </a:xfrm>
              <a:custGeom>
                <a:avLst/>
                <a:gdLst/>
                <a:ahLst/>
                <a:rect l="l" t="t" r="r" b="b"/>
                <a:pathLst>
                  <a:path w="1420" h="165">
                    <a:moveTo>
                      <a:pt x="0" y="165"/>
                    </a:moveTo>
                    <a:cubicBezTo>
                      <a:pt x="50" y="155"/>
                      <a:pt x="101" y="145"/>
                      <a:pt x="180" y="130"/>
                    </a:cubicBezTo>
                    <a:cubicBezTo>
                      <a:pt x="259" y="115"/>
                      <a:pt x="362" y="93"/>
                      <a:pt x="472" y="77"/>
                    </a:cubicBezTo>
                    <a:cubicBezTo>
                      <a:pt x="582" y="61"/>
                      <a:pt x="725" y="45"/>
                      <a:pt x="840" y="33"/>
                    </a:cubicBezTo>
                    <a:cubicBezTo>
                      <a:pt x="955" y="21"/>
                      <a:pt x="1063" y="10"/>
                      <a:pt x="1160" y="5"/>
                    </a:cubicBezTo>
                    <a:cubicBezTo>
                      <a:pt x="1257" y="0"/>
                      <a:pt x="1366" y="2"/>
                      <a:pt x="1420" y="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6953400" y="2714040"/>
                <a:ext cx="1769760" cy="361080"/>
              </a:xfrm>
              <a:custGeom>
                <a:avLst/>
                <a:gdLst/>
                <a:ahLst/>
                <a:rect l="l" t="t" r="r" b="b"/>
                <a:pathLst>
                  <a:path w="1420" h="165">
                    <a:moveTo>
                      <a:pt x="0" y="165"/>
                    </a:moveTo>
                    <a:cubicBezTo>
                      <a:pt x="50" y="155"/>
                      <a:pt x="101" y="145"/>
                      <a:pt x="180" y="130"/>
                    </a:cubicBezTo>
                    <a:cubicBezTo>
                      <a:pt x="259" y="115"/>
                      <a:pt x="362" y="93"/>
                      <a:pt x="472" y="77"/>
                    </a:cubicBezTo>
                    <a:cubicBezTo>
                      <a:pt x="582" y="61"/>
                      <a:pt x="725" y="45"/>
                      <a:pt x="840" y="33"/>
                    </a:cubicBezTo>
                    <a:cubicBezTo>
                      <a:pt x="955" y="21"/>
                      <a:pt x="1063" y="10"/>
                      <a:pt x="1160" y="5"/>
                    </a:cubicBezTo>
                    <a:cubicBezTo>
                      <a:pt x="1257" y="0"/>
                      <a:pt x="1366" y="2"/>
                      <a:pt x="1420" y="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545520" y="2432160"/>
              <a:ext cx="993240" cy="602280"/>
              <a:chOff x="6545520" y="2432160"/>
              <a:chExt cx="993240" cy="602280"/>
            </a:xfrm>
          </p:grpSpPr>
          <p:sp>
            <p:nvSpPr>
              <p:cNvPr id="86" name=""/>
              <p:cNvSpPr/>
              <p:nvPr/>
            </p:nvSpPr>
            <p:spPr>
              <a:xfrm>
                <a:off x="6545520" y="2503440"/>
                <a:ext cx="323640" cy="531000"/>
              </a:xfrm>
              <a:custGeom>
                <a:avLst/>
                <a:gdLst>
                  <a:gd name="textAreaLeft" fmla="*/ 43200 w 323640"/>
                  <a:gd name="textAreaRight" fmla="*/ 280440 w 323640"/>
                  <a:gd name="textAreaTop" fmla="*/ 92880 h 531000"/>
                  <a:gd name="textAreaBottom" fmla="*/ 385200 h 531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0476000">
                <a:off x="7193160" y="2446200"/>
                <a:ext cx="322560" cy="503640"/>
              </a:xfrm>
              <a:custGeom>
                <a:avLst/>
                <a:gdLst>
                  <a:gd name="textAreaLeft" fmla="*/ 43200 w 322560"/>
                  <a:gd name="textAreaRight" fmla="*/ 279360 w 322560"/>
                  <a:gd name="textAreaTop" fmla="*/ 88200 h 503640"/>
                  <a:gd name="textAreaBottom" fmla="*/ 365400 h 50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85640" y="2813760"/>
                <a:ext cx="491040" cy="213840"/>
              </a:xfrm>
              <a:prstGeom prst="rightArrow">
                <a:avLst>
                  <a:gd name="adj1" fmla="val 50000"/>
                  <a:gd name="adj2" fmla="val 5740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516000" y="1663560"/>
              <a:ext cx="1016640" cy="609840"/>
              <a:chOff x="6516000" y="1663560"/>
              <a:chExt cx="1016640" cy="60984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7200720" y="1735200"/>
                <a:ext cx="331560" cy="538200"/>
              </a:xfrm>
              <a:custGeom>
                <a:avLst/>
                <a:gdLst>
                  <a:gd name="textAreaLeft" fmla="*/ 44280 w 331560"/>
                  <a:gd name="textAreaRight" fmla="*/ 287280 w 331560"/>
                  <a:gd name="textAreaTop" fmla="*/ 93960 h 538200"/>
                  <a:gd name="textAreaBottom" fmla="*/ 390240 h 538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11124000">
                <a:off x="6539040" y="1677960"/>
                <a:ext cx="330120" cy="510120"/>
              </a:xfrm>
              <a:custGeom>
                <a:avLst/>
                <a:gdLst>
                  <a:gd name="textAreaLeft" fmla="*/ 43920 w 330120"/>
                  <a:gd name="textAreaRight" fmla="*/ 286200 w 330120"/>
                  <a:gd name="textAreaTop" fmla="*/ 89280 h 510120"/>
                  <a:gd name="textAreaBottom" fmla="*/ 370080 h 51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783480" y="2049480"/>
                <a:ext cx="502920" cy="216720"/>
              </a:xfrm>
              <a:prstGeom prst="rightArrow">
                <a:avLst>
                  <a:gd name="adj1" fmla="val 50000"/>
                  <a:gd name="adj2" fmla="val 58015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868800" y="229788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3040" y="15289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" name=""/>
            <p:cNvCxnSpPr/>
            <p:nvPr/>
          </p:nvCxnSpPr>
          <p:spPr>
            <a:xfrm flipH="1">
              <a:off x="4905000" y="1465200"/>
              <a:ext cx="10440" cy="1847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96" name=""/>
            <p:cNvSpPr/>
            <p:nvPr/>
          </p:nvSpPr>
          <p:spPr>
            <a:xfrm>
              <a:off x="4571640" y="206820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593320" y="3684600"/>
              <a:ext cx="80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87480" y="3676680"/>
              <a:ext cx="99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90240" y="3379680"/>
              <a:ext cx="349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09480" y="332100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84240" y="1512720"/>
            <a:ext cx="1249560" cy="1595520"/>
          </a:xfrm>
          <a:custGeom>
            <a:avLst/>
            <a:gdLst/>
            <a:ahLst/>
            <a:rect l="l" t="t" r="r" b="b"/>
            <a:pathLst>
              <a:path w="849" h="1005">
                <a:moveTo>
                  <a:pt x="184" y="856"/>
                </a:moveTo>
                <a:cubicBezTo>
                  <a:pt x="402" y="853"/>
                  <a:pt x="745" y="1005"/>
                  <a:pt x="834" y="760"/>
                </a:cubicBezTo>
                <a:cubicBezTo>
                  <a:pt x="825" y="650"/>
                  <a:pt x="849" y="673"/>
                  <a:pt x="782" y="649"/>
                </a:cubicBezTo>
                <a:cubicBezTo>
                  <a:pt x="785" y="635"/>
                  <a:pt x="789" y="605"/>
                  <a:pt x="797" y="590"/>
                </a:cubicBezTo>
                <a:cubicBezTo>
                  <a:pt x="841" y="511"/>
                  <a:pt x="815" y="575"/>
                  <a:pt x="834" y="524"/>
                </a:cubicBezTo>
                <a:cubicBezTo>
                  <a:pt x="826" y="472"/>
                  <a:pt x="834" y="443"/>
                  <a:pt x="775" y="457"/>
                </a:cubicBezTo>
                <a:cubicBezTo>
                  <a:pt x="784" y="428"/>
                  <a:pt x="797" y="413"/>
                  <a:pt x="819" y="391"/>
                </a:cubicBezTo>
                <a:cubicBezTo>
                  <a:pt x="809" y="288"/>
                  <a:pt x="823" y="336"/>
                  <a:pt x="767" y="280"/>
                </a:cubicBezTo>
                <a:cubicBezTo>
                  <a:pt x="755" y="242"/>
                  <a:pt x="759" y="273"/>
                  <a:pt x="775" y="236"/>
                </a:cubicBezTo>
                <a:cubicBezTo>
                  <a:pt x="781" y="222"/>
                  <a:pt x="789" y="192"/>
                  <a:pt x="789" y="192"/>
                </a:cubicBezTo>
                <a:cubicBezTo>
                  <a:pt x="781" y="159"/>
                  <a:pt x="779" y="144"/>
                  <a:pt x="745" y="133"/>
                </a:cubicBezTo>
                <a:cubicBezTo>
                  <a:pt x="731" y="124"/>
                  <a:pt x="712" y="103"/>
                  <a:pt x="693" y="125"/>
                </a:cubicBezTo>
                <a:cubicBezTo>
                  <a:pt x="683" y="137"/>
                  <a:pt x="679" y="169"/>
                  <a:pt x="679" y="169"/>
                </a:cubicBezTo>
                <a:cubicBezTo>
                  <a:pt x="676" y="152"/>
                  <a:pt x="679" y="133"/>
                  <a:pt x="671" y="118"/>
                </a:cubicBezTo>
                <a:cubicBezTo>
                  <a:pt x="667" y="111"/>
                  <a:pt x="656" y="113"/>
                  <a:pt x="649" y="110"/>
                </a:cubicBezTo>
                <a:cubicBezTo>
                  <a:pt x="639" y="106"/>
                  <a:pt x="630" y="100"/>
                  <a:pt x="620" y="96"/>
                </a:cubicBezTo>
                <a:cubicBezTo>
                  <a:pt x="605" y="90"/>
                  <a:pt x="575" y="81"/>
                  <a:pt x="575" y="81"/>
                </a:cubicBezTo>
                <a:cubicBezTo>
                  <a:pt x="568" y="83"/>
                  <a:pt x="558" y="83"/>
                  <a:pt x="553" y="88"/>
                </a:cubicBezTo>
                <a:cubicBezTo>
                  <a:pt x="548" y="93"/>
                  <a:pt x="554" y="111"/>
                  <a:pt x="546" y="110"/>
                </a:cubicBezTo>
                <a:cubicBezTo>
                  <a:pt x="521" y="107"/>
                  <a:pt x="503" y="82"/>
                  <a:pt x="479" y="73"/>
                </a:cubicBezTo>
                <a:cubicBezTo>
                  <a:pt x="482" y="81"/>
                  <a:pt x="479" y="96"/>
                  <a:pt x="487" y="96"/>
                </a:cubicBezTo>
                <a:cubicBezTo>
                  <a:pt x="495" y="96"/>
                  <a:pt x="494" y="81"/>
                  <a:pt x="494" y="73"/>
                </a:cubicBezTo>
                <a:cubicBezTo>
                  <a:pt x="494" y="61"/>
                  <a:pt x="493" y="47"/>
                  <a:pt x="487" y="37"/>
                </a:cubicBezTo>
                <a:cubicBezTo>
                  <a:pt x="465" y="3"/>
                  <a:pt x="410" y="7"/>
                  <a:pt x="376" y="0"/>
                </a:cubicBezTo>
                <a:cubicBezTo>
                  <a:pt x="361" y="2"/>
                  <a:pt x="346" y="1"/>
                  <a:pt x="332" y="7"/>
                </a:cubicBezTo>
                <a:cubicBezTo>
                  <a:pt x="300" y="21"/>
                  <a:pt x="298" y="74"/>
                  <a:pt x="287" y="103"/>
                </a:cubicBezTo>
                <a:cubicBezTo>
                  <a:pt x="290" y="118"/>
                  <a:pt x="287" y="135"/>
                  <a:pt x="295" y="147"/>
                </a:cubicBezTo>
                <a:cubicBezTo>
                  <a:pt x="299" y="153"/>
                  <a:pt x="307" y="131"/>
                  <a:pt x="302" y="125"/>
                </a:cubicBezTo>
                <a:cubicBezTo>
                  <a:pt x="296" y="117"/>
                  <a:pt x="282" y="120"/>
                  <a:pt x="272" y="118"/>
                </a:cubicBezTo>
                <a:cubicBezTo>
                  <a:pt x="219" y="126"/>
                  <a:pt x="195" y="133"/>
                  <a:pt x="176" y="184"/>
                </a:cubicBezTo>
                <a:cubicBezTo>
                  <a:pt x="179" y="191"/>
                  <a:pt x="187" y="199"/>
                  <a:pt x="184" y="206"/>
                </a:cubicBezTo>
                <a:cubicBezTo>
                  <a:pt x="181" y="213"/>
                  <a:pt x="169" y="210"/>
                  <a:pt x="162" y="214"/>
                </a:cubicBezTo>
                <a:cubicBezTo>
                  <a:pt x="143" y="224"/>
                  <a:pt x="133" y="236"/>
                  <a:pt x="117" y="251"/>
                </a:cubicBezTo>
                <a:cubicBezTo>
                  <a:pt x="88" y="311"/>
                  <a:pt x="81" y="336"/>
                  <a:pt x="154" y="354"/>
                </a:cubicBezTo>
                <a:cubicBezTo>
                  <a:pt x="164" y="351"/>
                  <a:pt x="196" y="346"/>
                  <a:pt x="191" y="325"/>
                </a:cubicBezTo>
                <a:cubicBezTo>
                  <a:pt x="189" y="317"/>
                  <a:pt x="176" y="320"/>
                  <a:pt x="169" y="317"/>
                </a:cubicBezTo>
                <a:cubicBezTo>
                  <a:pt x="152" y="320"/>
                  <a:pt x="133" y="319"/>
                  <a:pt x="117" y="325"/>
                </a:cubicBezTo>
                <a:cubicBezTo>
                  <a:pt x="101" y="331"/>
                  <a:pt x="73" y="354"/>
                  <a:pt x="73" y="354"/>
                </a:cubicBezTo>
                <a:cubicBezTo>
                  <a:pt x="75" y="361"/>
                  <a:pt x="74" y="372"/>
                  <a:pt x="80" y="376"/>
                </a:cubicBezTo>
                <a:cubicBezTo>
                  <a:pt x="93" y="385"/>
                  <a:pt x="125" y="391"/>
                  <a:pt x="125" y="391"/>
                </a:cubicBezTo>
                <a:cubicBezTo>
                  <a:pt x="83" y="420"/>
                  <a:pt x="117" y="428"/>
                  <a:pt x="103" y="472"/>
                </a:cubicBezTo>
                <a:cubicBezTo>
                  <a:pt x="115" y="510"/>
                  <a:pt x="124" y="514"/>
                  <a:pt x="147" y="480"/>
                </a:cubicBezTo>
                <a:cubicBezTo>
                  <a:pt x="105" y="465"/>
                  <a:pt x="101" y="460"/>
                  <a:pt x="36" y="480"/>
                </a:cubicBezTo>
                <a:cubicBezTo>
                  <a:pt x="21" y="485"/>
                  <a:pt x="26" y="509"/>
                  <a:pt x="21" y="524"/>
                </a:cubicBezTo>
                <a:cubicBezTo>
                  <a:pt x="29" y="629"/>
                  <a:pt x="0" y="643"/>
                  <a:pt x="88" y="657"/>
                </a:cubicBezTo>
                <a:cubicBezTo>
                  <a:pt x="93" y="696"/>
                  <a:pt x="102" y="736"/>
                  <a:pt x="88" y="775"/>
                </a:cubicBezTo>
                <a:cubicBezTo>
                  <a:pt x="82" y="792"/>
                  <a:pt x="58" y="819"/>
                  <a:pt x="58" y="819"/>
                </a:cubicBezTo>
                <a:cubicBezTo>
                  <a:pt x="87" y="862"/>
                  <a:pt x="132" y="852"/>
                  <a:pt x="184" y="856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7440" y="3471840"/>
            <a:ext cx="3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V="1">
            <a:off x="3048120" y="1447200"/>
            <a:ext cx="305280" cy="229320"/>
          </a:xfrm>
          <a:prstGeom prst="curvedConnector5">
            <a:avLst>
              <a:gd name="adj1" fmla="val 42148"/>
              <a:gd name="adj2" fmla="val 50000"/>
              <a:gd name="adj3" fmla="val 421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 rot="16200000">
            <a:off x="1904400" y="1370520"/>
            <a:ext cx="30564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/>
          <p:nvPr/>
        </p:nvCxnSpPr>
        <p:spPr>
          <a:xfrm flipV="1">
            <a:off x="3200040" y="2056680"/>
            <a:ext cx="30564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V="1">
            <a:off x="3276720" y="2666880"/>
            <a:ext cx="381600" cy="766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rot="10800000">
            <a:off x="1599480" y="1828080"/>
            <a:ext cx="30564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rot="10800000">
            <a:off x="1370880" y="2513880"/>
            <a:ext cx="457920" cy="15300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H="1" flipV="1" rot="5400000">
            <a:off x="2628360" y="11041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583080" y="1828800"/>
            <a:ext cx="605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G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3962520" y="1675800"/>
            <a:ext cx="305280" cy="229320"/>
          </a:xfrm>
          <a:prstGeom prst="curvedConnector5">
            <a:avLst>
              <a:gd name="adj1" fmla="val 42148"/>
              <a:gd name="adj2" fmla="val 50000"/>
              <a:gd name="adj3" fmla="val 421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7620840" y="1523880"/>
            <a:ext cx="531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160" y="2666880"/>
            <a:ext cx="531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1752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097840" y="2666520"/>
            <a:ext cx="13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15:40:05Z</dcterms:created>
  <dc:creator>Ph Ladoy</dc:creator>
  <dc:description/>
  <dc:language>en-US</dc:language>
  <cp:lastModifiedBy>lafore</cp:lastModifiedBy>
  <dcterms:modified xsi:type="dcterms:W3CDTF">2012-02-01T04:42:54Z</dcterms:modified>
  <cp:revision>262</cp:revision>
  <dc:subject/>
  <dc:title>IMAGE IR et vent (flux mousson) 12/07/2006 1815 TU</dc:title>
</cp:coreProperties>
</file>